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5A6-AF6A-43F4-B5B0-11CC357DC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2023-5CD6-4E44-AA39-A437BD23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C79D-22FA-4F72-9511-3880D95F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F592-3D7D-47F1-B827-1DFC105E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7C33-C46E-4271-8BD5-423FF46F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A219-094C-4315-AC8A-6BAEBA0A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55A1-2F5A-4DCF-A004-8828808D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32F1B-258E-49AE-8323-DF7C01F3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0B09-F177-4013-872F-ACA7D1B3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E9B3-363A-4567-B521-F167687A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4F84-C0FE-412A-BC2E-EDD46081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718C-4CD7-44C1-8C4E-DB9432CC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3432-BF75-46E2-AAD4-844647AE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5127-D954-48CF-93B7-85FD1172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47D4-F31F-472D-AC2B-7F15B86F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CDEE-28B0-46C2-8BA8-C7EFE6483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0B75-8298-4447-B638-7D58C853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23275-710A-4C35-BC34-3BCAA56A8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25888-8229-4CBE-8D2F-0C3F76D2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F426F-F777-455B-8A37-3C2CD77B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AF727-0CF6-4C6B-89CF-1303FC2C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61552-033B-404C-AD3F-FC064783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4D0F-1550-4375-A1F8-2B9CA8E7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C2121-774D-4414-AED0-0CA46555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136B7-97DA-49C3-9B8F-AC08613E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67E98-B955-49C5-A89D-B3271E45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6EEF4-4713-48F1-835D-46869DCC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3E6C7-B7F8-412F-A39C-DB09A423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676ED-0D06-41E7-BC31-F806B9DEE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D3974-3BE8-4B31-B055-B04C9F93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91E4D-48CD-4D35-B9E2-29E35EB1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B1DC2-60A5-49E1-82EF-7C9E2113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A413E-101C-4F8F-96AA-AA219184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DFA9-399F-407B-8B2A-489596FC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96320-0C8A-43DF-9013-44DDDF30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74655-7077-44BE-A582-D0FD8B8C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B0419-5799-4814-B07B-E56710EC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F0E3E-AC27-404E-923A-9D74826F8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BF48D-1D00-483D-8F1C-AD9EDED5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215D5-C241-488D-9B9B-75337DB3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F388A-3C72-422E-91FC-765A6E45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AF51D-E2FF-4B75-A797-A18377D0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87083-3F6A-4408-BA64-4609F47F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235CD-7122-4894-9B4A-7B6C4EE5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05E3-F7A5-454E-B865-1850D43A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E39C7-28EB-4770-92AB-0C4EECF3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1CAEA-F6C4-4FB4-AF4C-E0B5B08C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5CCF2-6CFE-4686-ACC4-032AF8B2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EC9A0-47EE-4D1B-9990-98C9EB0C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7E3B8-6659-43B2-97E4-39335E6A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7AF74-B09D-4013-8A6C-7C53AAD6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D91F6-1B49-4CFF-8EB3-8BA9A000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26F15-8F73-42C0-AAF2-15C7899D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53C87-12B6-4E7E-8A4D-BAE00523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5516B-5622-400F-85FC-17FF1E8A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CD0B-04E9-4476-8705-7204A785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716D3-05BD-4D64-AFCD-60FCB2FF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A2F06-5D99-4A29-BC81-234132AB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2FE1E-1C81-4430-8F78-C575A011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7EEEB-24A5-44A9-AB1A-C3081757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293CE-256E-4FFB-AD5B-2F8F86DE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23A16-7D4E-4BCD-AA54-44AA954B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8C07B-B33E-4DCD-B48D-9949DFC5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F9962-46A6-4B39-8500-6F9D07B4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F9BC2-E472-4234-A549-0C606B4C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A6D4E-A3BE-4ECE-8817-CE311B7B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BEC-C14F-4209-AB6A-FB352479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F741B-BACC-4294-87AE-2E289852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00855-6D1B-4495-B61F-A3C1EB2DB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0BE4C-A36F-4842-82B9-81583F49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A2BAA-691B-4278-90D2-F7C42914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82399-0574-453A-8528-8D98CEAB1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133CF-AA1B-49DC-9515-16A43865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9D278-0319-4CBA-B2B5-17B2DC40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370EC-B484-470B-9823-A343584D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BE2FC-093F-4C92-812A-64701D57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DCE2A-39DD-4DDF-9071-6CEB2736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17FF-852F-4706-A4A9-72BB10D7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A1F00-8A85-446B-936C-761E1899B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352D7-80A9-43E3-8BE9-F53A13BF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5E0C6-500B-485F-834B-FAE6234E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B4BC3-C177-4E14-ADDF-354559D1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13119-FCD6-485D-8CA4-A2185500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4F7-6B36-4B4B-A6F5-487DFD1A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D452-E9BC-4AD6-88AB-2533737F734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B399-37B0-466F-AB6E-DD326E092FD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1371-EA5F-4457-9205-5A122F676E8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7F7A2-3EF9-49E8-A9EA-A09F1DD0D38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8FC8-26E3-4BEA-89D8-00B33F5866E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913A-2359-47AF-AF32-98CCFA50CE8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AD60-41AA-4487-A19D-BC413E56511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57736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b0f0"/>
                </a:solidFill>
                <a:latin typeface="Monotype Corsiva"/>
                <a:ea typeface="Times New Roman"/>
              </a:rPr>
              <a:t>Рада видеть вас, друзья!</a:t>
            </a:r>
            <a:endParaRPr b="0" lang="en-US" sz="13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"/>
          <p:cNvGraphicFramePr/>
          <p:nvPr/>
        </p:nvGraphicFramePr>
        <p:xfrm>
          <a:off x="285840" y="642960"/>
          <a:ext cx="8643960" cy="5857920"/>
        </p:xfrm>
        <a:graphic>
          <a:graphicData uri="http://schemas.openxmlformats.org/drawingml/2006/table">
            <a:tbl>
              <a:tblPr/>
              <a:tblGrid>
                <a:gridCol w="4357440"/>
                <a:gridCol w="4286520"/>
              </a:tblGrid>
              <a:tr h="46044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560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ИН-             журавлИ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АН-             кожА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ЯН-             землЯН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помни!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оловЯ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клЯ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Я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существитель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ЕНН-            обедЕ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НН-            авиаци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помни!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ветрЕ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0">
                <a:tc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помни!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 входит в кор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иНий, зелёНый, сиНий,     свиНой, багряНый, юНый, румяНый, фазаНий, тюлеНий, бара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существительных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основой на Н+ -Н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о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абаН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 gridSpan="2">
                  <a:txBody>
                    <a:bodyPr lIns="65520" rIns="655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56800" y="274320"/>
            <a:ext cx="807732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а-исключения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071360" y="1643040"/>
            <a:ext cx="74293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Я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Н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КЛЯ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Н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Н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РЕ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ПОМНИ!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"/>
          <p:cNvSpPr/>
          <p:nvPr/>
        </p:nvSpPr>
        <p:spPr>
          <a:xfrm>
            <a:off x="971640" y="250200"/>
            <a:ext cx="792144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текст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1)Однажды я гулял по песчаному берегу моря. 2)Пустынная местность казалась спокойной. 3)Был жаркий, но ветреный день. 4)Припекало солнце, и поверхность моря сверкала серебряными искрами. 5)Неширокая дорожка пролегала среди кустов с неяркими оранжевыми цветами. 6)У меня под ногами скрипели песчинки. 7)Иногда ветер приносил с моря мелкие водяные брызги. 8)Торжественную тишину нарушало только пение маленьких птичек да пчелиный гу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- </a:t>
            </a:r>
            <a:r>
              <a:rPr b="1" i="1" lang="ru-RU" sz="24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Определите основную мысль текста. О чем он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- Определите стиль этого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- Какие элементы художественного стиля вы можете указать в этом текст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-  Найдите в тексте прилагательные, объясните правописание  Н и НН в суффикс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3" name=""/>
          <p:cNvGraphicFramePr/>
          <p:nvPr/>
        </p:nvGraphicFramePr>
        <p:xfrm>
          <a:off x="1533600" y="620640"/>
          <a:ext cx="7359480" cy="3605400"/>
        </p:xfrm>
        <a:graphic>
          <a:graphicData uri="http://schemas.openxmlformats.org/drawingml/2006/table">
            <a:tbl>
              <a:tblPr/>
              <a:tblGrid>
                <a:gridCol w="1838160"/>
                <a:gridCol w="1839960"/>
                <a:gridCol w="1841400"/>
                <a:gridCol w="1839960"/>
              </a:tblGrid>
              <a:tr h="5749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i="1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-Н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Прямоугольник 2"/>
          <p:cNvSpPr/>
          <p:nvPr/>
        </p:nvSpPr>
        <p:spPr>
          <a:xfrm>
            <a:off x="2286000" y="439884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3e21"/>
                </a:solidFill>
                <a:latin typeface="Times New Roman"/>
                <a:ea typeface="Times New Roman"/>
              </a:rPr>
              <a:t>Систематизируйте свои выводы в таблиц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1042920" y="2060640"/>
          <a:ext cx="7885080" cy="4454640"/>
        </p:xfrm>
        <a:graphic>
          <a:graphicData uri="http://schemas.openxmlformats.org/drawingml/2006/table">
            <a:tbl>
              <a:tblPr/>
              <a:tblGrid>
                <a:gridCol w="1860480"/>
                <a:gridCol w="1927440"/>
                <a:gridCol w="1790640"/>
                <a:gridCol w="2306520"/>
              </a:tblGrid>
              <a:tr h="5648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                         </a:t>
                      </a: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-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-Н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прилагательн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суфф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песчаном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а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пустынн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сущ.-Н+-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ветре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склю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торжественну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-ен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серебряны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я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водя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я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4b3e21"/>
                          </a:solidFill>
                          <a:latin typeface="Times New Roman"/>
                          <a:ea typeface="Times New Roman"/>
                        </a:rPr>
                        <a:t>пчели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-ин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верьте результа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я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базового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уровня</a:t>
            </a:r>
            <a:br>
              <a:rPr sz="32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Rectangle 1"/>
          <p:cNvSpPr/>
          <p:nvPr/>
        </p:nvSpPr>
        <p:spPr>
          <a:xfrm>
            <a:off x="1042920" y="745920"/>
            <a:ext cx="7850160" cy="496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пропущенные буквы, выделите суффик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. утренний, мышиный, куриный,   бесчувств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. кожаный, оловянный, кам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. жестяной, ценный, длинн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188640"/>
            <a:ext cx="749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я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повышенного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уровня</a:t>
            </a:r>
            <a:br>
              <a:rPr sz="32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116000" y="1089000"/>
            <a:ext cx="784872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авьте пропущенные буквы, распределите слова на два столбика: 1) – нн- ; 2)  – н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олюционный, восторженный, обеденный, оловянный, деревянный, экскурсионный, письменный, стеклянный, авиационный, обыкновен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счаный, костяной, орлиный, овсяный, шерстяной, кожаный, звериный, торфян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я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ысокого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  уровня</a:t>
            </a:r>
            <a:br>
              <a:rPr sz="32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1042920" y="750960"/>
            <a:ext cx="79218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уйте прилагательные от существительных, объясните графически выбор –Н- и –НН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.берестяной, чугунный, глиняный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.былинный, костяной, кухонный, телефонный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.журавлиный, петушиный, деревянный, серебряны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Рефлекс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Rectangle 1"/>
          <p:cNvSpPr/>
          <p:nvPr/>
        </p:nvSpPr>
        <p:spPr>
          <a:xfrm>
            <a:off x="1042920" y="1058760"/>
            <a:ext cx="76327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Как бы вы оценили результаты своей работы на уро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я всё понял, могу этот материал объяснить другому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я сам всё понял, но объяснить другому не возьмус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для полного понимания мне нужно еще все повторит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я ничего не поня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Домашнее задани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br>
              <a:rPr sz="3600"/>
            </a:br>
            <a:br>
              <a:rPr sz="4000"/>
            </a:br>
            <a:br>
              <a:rPr sz="2200"/>
            </a:b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Rectangle 1"/>
          <p:cNvSpPr/>
          <p:nvPr/>
        </p:nvSpPr>
        <p:spPr>
          <a:xfrm>
            <a:off x="1042920" y="492840"/>
            <a:ext cx="7850160" cy="57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рованное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овый уровен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выучить правило п.64, упр.3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ный уровень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.64, упр.373-работа с текс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окий уровен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Творческое зад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Нужн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оставить словосочетания, предложения или небольшой текс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свободную тему с использованием прилагательных с одной и двумя н в суффик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"/>
          <p:cNvSpPr/>
          <p:nvPr/>
        </p:nvSpPr>
        <p:spPr>
          <a:xfrm>
            <a:off x="1258920" y="473760"/>
            <a:ext cx="7705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рим домашнее зад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Повышенный 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тцевый, рубашонка, ежовый, речонка, плюшевый, камышовый, пирожок, овражек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ей, пейзажем ,шалашом, плющом, чащей, стражей, ландышем, грачом, в свежем, тучей, чертежом, улицей, ключ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99720" y="274320"/>
            <a:ext cx="7572600" cy="59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00b0f0"/>
                </a:solidFill>
                <a:latin typeface="Monotype Corsiva"/>
              </a:rPr>
              <a:t>До новых встреч…</a:t>
            </a:r>
            <a:endParaRPr b="0" lang="en-US" sz="13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Буквенный диктант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Rectangle 1"/>
          <p:cNvSpPr/>
          <p:nvPr/>
        </p:nvSpPr>
        <p:spPr>
          <a:xfrm>
            <a:off x="1116000" y="1160280"/>
            <a:ext cx="7632720" cy="527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овянный, дровяной, муравьиный, торжественный, даль туманна, юный, ветреный, старинный, песчаный, дивизионны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себя. 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  2  3 4   5   6 7  8   9 10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н н н нн нн н н нн н н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вь себе оценку: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5" - нет ошибок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4" - 1;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"3" - 2, 3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е - "2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Письмо по памят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1" name="Прямоугольник 2"/>
          <p:cNvSpPr/>
          <p:nvPr/>
        </p:nvSpPr>
        <p:spPr>
          <a:xfrm>
            <a:off x="971640" y="1773360"/>
            <a:ext cx="7993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Свет луны серебряный и длинный, </a:t>
            </a:r>
            <a:br>
              <a:rPr sz="3200"/>
            </a:br>
            <a:r>
              <a:rPr b="0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Плачут вербы, шепчут тополя, </a:t>
            </a:r>
            <a:br>
              <a:rPr sz="3200"/>
            </a:br>
            <a:r>
              <a:rPr b="0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Но никто под окрик журавлиный</a:t>
            </a:r>
            <a:br>
              <a:rPr sz="3200"/>
            </a:br>
            <a:r>
              <a:rPr b="0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Не разлюбит отчие поля. </a:t>
            </a:r>
            <a:br>
              <a:rPr sz="3200"/>
            </a:br>
            <a:r>
              <a:rPr b="0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                                      (С. Есени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Corbel"/>
              </a:rPr>
              <a:t>Составьте предложения, используя словосочетания: 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Прямоугольник 2"/>
          <p:cNvSpPr/>
          <p:nvPr/>
        </p:nvSpPr>
        <p:spPr>
          <a:xfrm>
            <a:off x="1258920" y="1700280"/>
            <a:ext cx="7561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32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сонный лес, серебряный иней, торжественная тишина, звериные тропы, причудливые искусственные кружева, багряное солнце,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1"/>
          <p:cNvSpPr/>
          <p:nvPr/>
        </p:nvSpPr>
        <p:spPr>
          <a:xfrm>
            <a:off x="1116000" y="1116000"/>
            <a:ext cx="7704000" cy="31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3b1d15"/>
                </a:solidFill>
                <a:uFillTx/>
                <a:latin typeface="Times New Roman"/>
                <a:ea typeface="Times New Roman"/>
              </a:rPr>
              <a:t>Сегодня на уроке я:</a:t>
            </a:r>
            <a:br>
              <a:rPr sz="4000"/>
            </a:br>
            <a:r>
              <a:rPr b="0" lang="ru-RU" sz="40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1) узнал, открыл для себя… </a:t>
            </a:r>
            <a:br>
              <a:rPr sz="4000"/>
            </a:br>
            <a:r>
              <a:rPr b="0" lang="ru-RU" sz="40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2) научился, смог… </a:t>
            </a:r>
            <a:br>
              <a:rPr sz="4000"/>
            </a:br>
            <a:r>
              <a:rPr b="0" lang="ru-RU" sz="4000" spc="-1" strike="noStrike">
                <a:solidFill>
                  <a:srgbClr val="3b1d15"/>
                </a:solidFill>
                <a:latin typeface="Times New Roman"/>
                <a:ea typeface="Times New Roman"/>
              </a:rPr>
              <a:t>3) могу похвалить себя и своих одноклассников за …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14200"/>
            <a:ext cx="749952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дь внимателен: каждый шаг может привести            тебя к открытию.</a:t>
            </a: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                 Кумор Лешек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роблемная ситуац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Прямоугольник 2"/>
          <p:cNvSpPr/>
          <p:nvPr/>
        </p:nvSpPr>
        <p:spPr>
          <a:xfrm>
            <a:off x="1116000" y="1341360"/>
            <a:ext cx="7777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 (Не) веселый, осе.. и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не) разговорчивый 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 лиц… вой, серебр.. ный, еж..вый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) (Не) правдив, а лжив; нисколько (не) интересная книга; утре..ий;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) … …. … 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4240" y="260280"/>
            <a:ext cx="8220240" cy="602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b3e21"/>
                </a:solidFill>
                <a:latin typeface="Times New Roman"/>
                <a:ea typeface="Times New Roman"/>
              </a:rPr>
              <a:t>Тема урока:</a:t>
            </a:r>
            <a:br>
              <a:rPr sz="4800"/>
            </a:br>
            <a:r>
              <a:rPr b="1" lang="ru-RU" sz="4800" spc="-1" strike="noStrike">
                <a:solidFill>
                  <a:srgbClr val="4b3e21"/>
                </a:solidFill>
                <a:latin typeface="Times New Roman"/>
                <a:ea typeface="Times New Roman"/>
              </a:rPr>
              <a:t>Н-НН</a:t>
            </a:r>
            <a:br>
              <a:rPr sz="4800"/>
            </a:br>
            <a:r>
              <a:rPr b="1" lang="ru-RU" sz="4800" spc="-1" strike="noStrike">
                <a:solidFill>
                  <a:srgbClr val="4b3e21"/>
                </a:solidFill>
                <a:latin typeface="Times New Roman"/>
                <a:ea typeface="Times New Roman"/>
              </a:rPr>
              <a:t>в суффиксах прилагательных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57736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b3e21"/>
                </a:solidFill>
                <a:latin typeface="Times New Roman"/>
                <a:ea typeface="Times New Roman"/>
              </a:rPr>
              <a:t>Цель урока:</a:t>
            </a:r>
            <a:br>
              <a:rPr sz="4800"/>
            </a:br>
            <a:r>
              <a:rPr b="1" lang="ru-RU" sz="4800" spc="-1" strike="noStrike">
                <a:solidFill>
                  <a:srgbClr val="4b3e21"/>
                </a:solidFill>
                <a:latin typeface="Times New Roman"/>
                <a:ea typeface="Times New Roman"/>
              </a:rPr>
              <a:t>Выяснить правила написания Н-НН в суффиксах прилагательных, образованных от имён существительных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Прямоугольник 3"/>
          <p:cNvSpPr/>
          <p:nvPr/>
        </p:nvSpPr>
        <p:spPr>
          <a:xfrm>
            <a:off x="1403280" y="692280"/>
            <a:ext cx="7169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826920" y="707040"/>
            <a:ext cx="7993080" cy="48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90d"/>
                </a:solidFill>
                <a:latin typeface="Arial"/>
                <a:ea typeface="Times New Roman"/>
              </a:rPr>
              <a:t>Как образовались слова</a:t>
            </a: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Серебро – серебр – </a:t>
            </a:r>
            <a:r>
              <a:rPr b="1" i="1" lang="ru-RU" sz="2400" spc="-1" strike="noStrike" u="sng">
                <a:solidFill>
                  <a:srgbClr val="c32d2e"/>
                </a:solidFill>
                <a:uFillTx/>
                <a:latin typeface="Arial"/>
                <a:ea typeface="Times New Roman"/>
              </a:rPr>
              <a:t>ян</a:t>
            </a:r>
            <a:r>
              <a:rPr b="1" i="1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–ый_(суффиксальный спосо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Утро – утр –</a:t>
            </a:r>
            <a:r>
              <a:rPr b="1" i="1" lang="ru-RU" sz="2400" spc="-1" strike="noStrike" u="sng">
                <a:solidFill>
                  <a:srgbClr val="c32d2e"/>
                </a:solidFill>
                <a:uFillTx/>
                <a:latin typeface="Arial"/>
                <a:ea typeface="Times New Roman"/>
              </a:rPr>
              <a:t>енн </a:t>
            </a: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– ий_(суффиксальный спосо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Осень – осен –</a:t>
            </a:r>
            <a:r>
              <a:rPr b="1" i="1" lang="ru-RU" sz="2400" spc="-1" strike="noStrike" u="sng">
                <a:solidFill>
                  <a:srgbClr val="c32d2e"/>
                </a:solidFill>
                <a:uFillTx/>
                <a:latin typeface="Arial"/>
                <a:ea typeface="Times New Roman"/>
              </a:rPr>
              <a:t>н</a:t>
            </a:r>
            <a:r>
              <a:rPr b="1" i="1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–ий__(суффиксальный спосо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 </a:t>
            </a: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соловей – соловь- </a:t>
            </a:r>
            <a:r>
              <a:rPr b="1" i="1" lang="ru-RU" sz="2400" spc="-1" strike="noStrike" u="sng">
                <a:solidFill>
                  <a:srgbClr val="c32d2e"/>
                </a:solidFill>
                <a:uFillTx/>
                <a:latin typeface="Arial"/>
                <a:ea typeface="Times New Roman"/>
              </a:rPr>
              <a:t>и</a:t>
            </a:r>
            <a:r>
              <a:rPr b="1" lang="ru-RU" sz="2400" spc="-1" strike="noStrike" u="sng">
                <a:solidFill>
                  <a:srgbClr val="c32d2e"/>
                </a:solidFill>
                <a:uFillTx/>
                <a:latin typeface="Arial"/>
                <a:ea typeface="Times New Roman"/>
              </a:rPr>
              <a:t>н</a:t>
            </a: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 –ый (суффиксальный спосо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  </a:t>
            </a: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песок - песч-</a:t>
            </a:r>
            <a:r>
              <a:rPr b="1" i="1" lang="ru-RU" sz="2400" spc="-1" strike="noStrike" u="sng">
                <a:solidFill>
                  <a:srgbClr val="c32d2e"/>
                </a:solidFill>
                <a:uFillTx/>
                <a:latin typeface="Arial"/>
                <a:ea typeface="Times New Roman"/>
              </a:rPr>
              <a:t>ан</a:t>
            </a: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-ый     (суффиксальный спосо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авиация - авиаци-</a:t>
            </a:r>
            <a:r>
              <a:rPr b="1" i="1" lang="ru-RU" sz="2400" spc="-1" strike="noStrike" u="sng">
                <a:solidFill>
                  <a:srgbClr val="c32d2e"/>
                </a:solidFill>
                <a:uFillTx/>
                <a:latin typeface="Arial"/>
                <a:ea typeface="Times New Roman"/>
              </a:rPr>
              <a:t>онн</a:t>
            </a:r>
            <a:r>
              <a:rPr b="0" lang="ru-RU" sz="2400" spc="-1" strike="noStrike" u="sng">
                <a:solidFill>
                  <a:srgbClr val="1e190d"/>
                </a:solidFill>
                <a:uFillTx/>
                <a:latin typeface="Arial"/>
                <a:ea typeface="Times New Roman"/>
              </a:rPr>
              <a:t>-ый (суффиксальный спосо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258920" y="754200"/>
            <a:ext cx="7416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e190d"/>
                </a:solidFill>
                <a:uFillTx/>
                <a:latin typeface="Times New Roman"/>
                <a:ea typeface="Times New Roman"/>
              </a:rPr>
              <a:t>1 вариант</a:t>
            </a:r>
            <a:r>
              <a:rPr b="0" lang="ru-RU" sz="3200" spc="-1" strike="noStrike">
                <a:solidFill>
                  <a:srgbClr val="1e190d"/>
                </a:solidFill>
                <a:latin typeface="Times New Roman"/>
                <a:ea typeface="Times New Roman"/>
              </a:rPr>
              <a:t>   Мужественный, соломенный, станционный, чувственный, тыквенный, клюк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e190d"/>
                </a:solidFill>
                <a:uFillTx/>
                <a:latin typeface="Times New Roman"/>
                <a:ea typeface="Times New Roman"/>
              </a:rPr>
              <a:t>2 вариант </a:t>
            </a:r>
            <a:r>
              <a:rPr b="0" lang="ru-RU" sz="3200" spc="-1" strike="noStrike">
                <a:solidFill>
                  <a:srgbClr val="1e190d"/>
                </a:solidFill>
                <a:latin typeface="Times New Roman"/>
                <a:ea typeface="Times New Roman"/>
              </a:rPr>
              <a:t>Осенний, туманный, карманный, лимонный, стари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e190d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1e190d"/>
                </a:solidFill>
                <a:uFillTx/>
                <a:latin typeface="Times New Roman"/>
                <a:ea typeface="Times New Roman"/>
              </a:rPr>
              <a:t>3 вариан</a:t>
            </a:r>
            <a:r>
              <a:rPr b="0" lang="ru-RU" sz="3200" spc="-1" strike="noStrike">
                <a:solidFill>
                  <a:srgbClr val="1e190d"/>
                </a:solidFill>
                <a:latin typeface="Times New Roman"/>
                <a:ea typeface="Times New Roman"/>
              </a:rPr>
              <a:t>   Кожаный, песчаный, серебряный, земляной ,звериный,  лебеди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1"/>
          <p:cNvSpPr/>
          <p:nvPr/>
        </p:nvSpPr>
        <p:spPr>
          <a:xfrm>
            <a:off x="2268360" y="1260000"/>
            <a:ext cx="56167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SchoolBookC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9-01-22T22:03:07Z</dcterms:modified>
  <cp:revision>110</cp:revision>
  <dc:subject/>
  <dc:title>Будь внимателен: каждый шаг может привести            тебя к открытию.                   Кумор Лешек</dc:title>
</cp:coreProperties>
</file>